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02B-6C76-46C3-9C07-F5658249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874-5307-42E5-8400-8108E57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568-A35B-471C-A823-BF47DEB0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51F-15B3-4A6D-A54E-57B28817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FA79-E2DE-4146-B205-8EE94F5F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0EE9-4D57-4764-AE3D-0329EB42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45C8-FB33-4559-8451-6A122D9E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73B5-9C1A-481C-87E5-2C8B34A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2BA3-B62D-4694-A454-C1934BEF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7E9F-B651-4D7A-BD66-98E3F4E3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1EAC-00C1-4F4D-9458-8B8A2F2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99D-6B37-43A2-82C3-82119FBA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8CFA-E09D-4262-9383-F923894A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108D-C5A5-42C9-922F-D48656F5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ABCD-F62D-40F9-AF53-49026BC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E8A6-EB3B-43DD-B78D-6E7E9B9E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ABA8-FA5A-49CB-A433-70DC1E5C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F78-1211-4FEC-8A03-BD7962D7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10D-9DFC-42CE-B446-71AB730D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6B2-91D1-49E7-A16D-6CFD9B7D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98D-3D8B-429E-837E-1F50E264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5E6-0AD8-4F54-8EB9-C8E8E4D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EE6-95F1-45DB-81EC-4FF02AF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270-2647-432F-B391-B8053A3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5E82-7ACE-4BCD-856F-D242D55CA7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4792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BC3A-6CD4-460A-AAFF-C0232C8182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678168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ecision Models Final Project</a:t>
            </a:r>
            <a:br>
              <a:rPr sz="5600"/>
            </a:b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6705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am 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af Buchner, Mark Loe, Jamie McCarron, Elissa Meadow and Jane Sla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8954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ability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hieving Profit-Resul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pplied arbitrary floor of $2M needed to cover all other co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Crystal Ball to calculate probability of achieving a prof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90720" y="3733920"/>
          <a:ext cx="7097760" cy="227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709776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ghest Profits (In Descending Order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kvil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sh Mea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roll Gard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ghest Certainty of Achieving a Prof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sh Meadows-79.8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kville-74.8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roll Gardens-49.7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s Encounter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iginally set out to use Solver to do a conjoint analysis based on demographic attribute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 many variables and no way to determine reven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ter changing methodology, first run at data collection and analysis did not produce results usable for Crystal B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oose Fresh Meadow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pite lower gross profit, higher probability of achieving a profit (less red below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4038480" cy="205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4000680" cy="2039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5248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kvi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505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sh Mea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371600" y="2819520"/>
            <a:ext cx="64008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y Question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bjective Fun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ystal Ball Resul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YSC looking to open a new 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oosing between 3 neighborho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roll Garden, Brookly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kville, Brookly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sh Meadows, Que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ant to determine most profitable location based on demographic information of potential cli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ximize Gross Prof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venue – Lease Costs = Gross Prof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nue derived from number of customers times monthly fee per custom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se cost derived from $/square foot time total square feet for the lo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ta Coll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btained demographic and competitor information from NYSC for the three lo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lculat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ulation and estimated grow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rital Sta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umber of Competitors in ar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etitor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71640"/>
          <a:ext cx="8085240" cy="409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71640"/>
                    <a:ext cx="808524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graphic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1371600"/>
          <a:ext cx="755964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55964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ta Collection-Reven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International Health, Racquet &amp; Sportsclub data to find % of NYC population that belong to a health clu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umed all clubs in a single location attract equal # of peo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Crystal Ball with Normal distribution for expected # of customers for revenue calc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d NYSC annual report for average fe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ta Collection-Co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internet research for average lease costs/square foot in each 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triangular distribution in Crystal Ball for $/square foo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1:53:41Z</dcterms:created>
  <dc:creator>Elissa Meadow</dc:creator>
  <dc:description/>
  <dc:language>en-US</dc:language>
  <cp:lastModifiedBy>Elissa Meadow</cp:lastModifiedBy>
  <dcterms:modified xsi:type="dcterms:W3CDTF">2003-12-04T03:50:18Z</dcterms:modified>
  <cp:revision>4</cp:revision>
  <dc:subject/>
  <dc:title>Decision Models Final Project NYS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2213140</vt:r8>
  </property>
  <property fmtid="{D5CDD505-2E9C-101B-9397-08002B2CF9AE}" pid="3" name="_AuthorEmail">
    <vt:lpwstr>ehmeadow@verizon.net</vt:lpwstr>
  </property>
  <property fmtid="{D5CDD505-2E9C-101B-9397-08002B2CF9AE}" pid="4" name="_AuthorEmailDisplayName">
    <vt:lpwstr>Elissa Meadow</vt:lpwstr>
  </property>
  <property fmtid="{D5CDD505-2E9C-101B-9397-08002B2CF9AE}" pid="5" name="_EmailSubject">
    <vt:lpwstr>NYSC Project</vt:lpwstr>
  </property>
</Properties>
</file>